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A54-7D65-46BB-BD2D-B43F6351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55F-C97B-46FB-81B7-6DEF51B9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C3D-72E5-41F1-B756-F2ED6EA4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FB9-C485-4FC7-9D84-7E76F245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BC77-EBFE-464D-838A-442482FB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C595-8E99-4B2D-A933-9BDCABD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8368-2660-4A2B-94FF-A427368F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410-BCF3-4D3C-A118-4B2CE6AF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FFA5-6D95-4FBF-9BB2-D4E61671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16F0-1F3A-4703-8ABB-A24D74FF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7BA2-0D52-4751-97CF-03D6575D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49F-F4B9-40F3-947A-C4EFE5AE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7A4D-EADF-489B-A5E4-8222467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0B6E-6E79-41FD-9BED-A7573DDE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5960-EF87-410B-BA95-9BB25E6E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F22B-FF47-4C48-AA0A-E8FC795D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4BBE-6FFA-497E-BCB9-367C84E6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AF7EB-ECEF-4C37-B6C7-BFDE3438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5F442-03E9-499B-92D3-4F216C26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26DF3-DF88-46DD-8DD6-1C2D7CCA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64906-85A6-456A-A34B-E655E896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1A9FC-1D9B-4807-839A-3374BB19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BD6-BD26-4076-B3CC-90932CA8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05CE6-1013-4DC9-91DA-44ADF4CA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C2E53-D64B-4637-83FD-8C5F5F93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39D33-A10B-4646-B1A1-B656AE4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4E584-C51E-4BEB-B24E-0CEC352A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74B7A-05BA-4B55-8A36-6EE2362A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6C363-F39B-47B9-B728-3938E012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27004-95C5-43C0-A978-8C3EF99F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9508-7431-4ECE-B247-1A3E0842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EC53-B133-48B1-950C-7986A7AC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70C5-A631-4C7E-9128-F3667740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13A-D349-43DD-8399-312244A1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2864-9576-4E86-A887-E5061D6B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DF47B-9F69-45A9-875E-63CF9F40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1F58-23C8-4EF3-AEE4-A9174D2F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CBEE-EF44-4074-9752-C06A8E1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A913-5B91-4F09-A2FD-0DA8FE3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797F0-D4A9-4A29-B877-A73F4047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325CE-2AB4-4521-B327-672C3619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6C104-72B4-48DA-A9F6-16B9A09F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CDFC-B8F5-4E05-8E47-3870E79B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A53-DA88-4C64-8994-10397F0B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B2C-505A-4824-81CD-FBEDD923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1D3-1217-4A37-83B6-665A9143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6F0-282A-4866-B7EE-AAC6C9A6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EB6-431A-4111-8CD3-D600245A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066-D10F-4F28-A710-7F2CCBBD7CB6}" type="slidenum"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A111-E067-418F-A1AA-9027E1BFD19D}" type="slidenum">
              <a:rPr b="0" lang="en-CA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B1F3-8812-4AA2-B769-D5A1ED1FCFE3}" type="slidenum"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3535-A65A-44E1-82DD-E636AD4E72E2}" type="slidenum"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94c600"/>
                </a:solidFill>
                <a:latin typeface="Century Gothic"/>
              </a:rPr>
              <a:t>Microsoft Word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24242"/>
                </a:solidFill>
                <a:latin typeface="Century Gothic"/>
              </a:rPr>
              <a:t>Equation Edito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94c600"/>
                </a:solidFill>
                <a:latin typeface="Century Gothic"/>
              </a:rPr>
              <a:t>What type of documents might require Equation Editor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Formula Shee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Tests &amp; Quizz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Workshee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Inserting formulas in financial tex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94c600"/>
                </a:solidFill>
                <a:latin typeface="Century Gothic"/>
              </a:rPr>
              <a:t>What can you do with Equation Editor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Use mathematical notation such a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Square roo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Exponents/logarithm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Fractio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Greek alphab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Sequence not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Bracke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Matri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94c600"/>
                </a:solidFill>
                <a:latin typeface="Century Gothic"/>
              </a:rPr>
              <a:t>How do you use Equation Editor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Open Microsoft Wo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Choose the insert ta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Click on the Pi symbol on the far right in the toolba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Choose the notation you would like to us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8:46:02Z</dcterms:created>
  <dc:creator>Owner</dc:creator>
  <dc:description/>
  <dc:language>en-US</dc:language>
  <cp:lastModifiedBy>Mike</cp:lastModifiedBy>
  <dcterms:modified xsi:type="dcterms:W3CDTF">2012-07-10T01:52:24Z</dcterms:modified>
  <cp:revision>3</cp:revision>
  <dc:subject/>
  <dc:title>Microsoft Word</dc:title>
</cp:coreProperties>
</file>